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390-8E37-402C-95FA-18ADAE75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A23-E26F-4C47-935C-07BA6A17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E54-22DA-43E0-B5F5-2B5AB90F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535-D8C4-4DE6-8943-4A1C72FD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EE8-7E5B-4FF1-908A-BB9FD573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B1E-ACE2-40FA-8518-9D32A824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D20-6422-4939-8207-DF5A2FFA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848-364C-45E9-9054-00D62BA1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549-CBCB-4EF7-AB70-6441C20E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19A-F4F7-4527-AC79-98491BEB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E4A-55CB-40C0-97F5-0FC590D1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ED1-E882-4D50-A55E-1A9F9CEA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D676-1738-4E56-804C-835B95021E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ornhill 3"/>
          <p:cNvPicPr/>
          <p:nvPr/>
        </p:nvPicPr>
        <p:blipFill>
          <a:blip r:embed="rId1"/>
          <a:stretch/>
        </p:blipFill>
        <p:spPr>
          <a:xfrm>
            <a:off x="1928880" y="404640"/>
            <a:ext cx="1096920" cy="113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Wanlock1"/>
          <p:cNvPicPr/>
          <p:nvPr/>
        </p:nvPicPr>
        <p:blipFill>
          <a:blip r:embed="rId2"/>
          <a:stretch/>
        </p:blipFill>
        <p:spPr>
          <a:xfrm>
            <a:off x="3657600" y="333360"/>
            <a:ext cx="895320" cy="121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umfrieshire Ex Pres"/>
          <p:cNvPicPr/>
          <p:nvPr/>
        </p:nvPicPr>
        <p:blipFill>
          <a:blip r:embed="rId3"/>
          <a:stretch/>
        </p:blipFill>
        <p:spPr>
          <a:xfrm>
            <a:off x="5024520" y="476280"/>
            <a:ext cx="1042920" cy="996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0" y="1500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HILL                                       THORNHILL                              WANLOCK PUBLIC           DUMFRIES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94488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Thornhill 1"/>
          <p:cNvPicPr/>
          <p:nvPr/>
        </p:nvPicPr>
        <p:blipFill>
          <a:blip r:embed="rId4"/>
          <a:stretch/>
        </p:blipFill>
        <p:spPr>
          <a:xfrm>
            <a:off x="344520" y="333360"/>
            <a:ext cx="969840" cy="1206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15:15:54Z</dcterms:created>
  <dc:creator>JY</dc:creator>
  <dc:description/>
  <dc:language>en-US</dc:language>
  <cp:lastModifiedBy>John</cp:lastModifiedBy>
  <dcterms:modified xsi:type="dcterms:W3CDTF">2011-11-29T19:17:16Z</dcterms:modified>
  <cp:revision>10</cp:revision>
  <dc:subject/>
  <dc:title>Slide 1</dc:title>
</cp:coreProperties>
</file>